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FB36-D9D5-4F40-BD4D-4199385852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F16-A4A7-49FB-A801-98DF999733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A1E-2681-4624-A213-97AB55C9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72B-9F01-428E-A552-4AD9E1B1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F3E-ED12-4B07-A28C-2E0AF1CD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E38-BB44-442F-BD93-9ECD1173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61B-EBB3-413C-913D-A147C9A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9D1B-5771-426D-93CF-D2FEA71C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8270-32A1-45DB-87FC-53B96E1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C2C1-E3B8-46D0-9CC4-851DB84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23C-D5C5-4E11-9AC5-42C8DC6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5E2-BC62-4EBA-81FD-09EF637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1CA-6F14-4C0D-9C75-4D8A6A9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119-3593-448F-B624-CC704FBB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7D6-BFBB-4963-BCBC-80D88D0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7BC3-E168-43BF-A2E2-F2223E1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FB7C-2729-4179-8C29-9C56E505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C0F6-3D07-4AB6-9733-AED0FC3A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EB5-6DAC-4033-95C3-7C569603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88A-3409-4F2B-9959-42037FC0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4F-5618-42E2-A80F-13E776A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162-2271-448D-AEAA-F652F6A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DA8-831D-4048-ABC5-5CA091D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059-5067-4530-9725-195A375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BFB-290F-426D-96F6-67AE4CF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347-6976-49C3-BB68-05B3FAB5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83EB-F4D1-4BCB-A285-19985041D65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157-8C9E-4880-B816-7E7328FDBAE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Los demostr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mo  posesivos y articulos determinados son determinantes de segunda mención: sitúan un sustantivo que ya ha aparecido explícita o implícitamente en un con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381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osposi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l demonstrativo a un sustantivo puede también tener función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istanciamiento, desprecio o no acept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j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: El curso este acaba en junio, ¿ver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?). En el ejemplo, como el sustantivo ya se ha determinado por el artículo “el”, el demonstrativo sirve para expresar un punto de vista o un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valor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bre el elemento alu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n algunos casos la posposición puede tener un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valor enfátic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l chico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era muy sim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l asunto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aquel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es muy impor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n el habla coloquial la funcion del demostrativo es tener un carácter deíctico-posesivo, que no corresponde con el itali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!Hola Antonio! Cómo va esa vida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Come va la vita 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Nótese el enunci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Te acuerdas de ese chico que tenía un manual de gramática en la man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-¿ése de pelo cor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quí, a diferencia de otras lenguas,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emostrativo no pierde su valor de seña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llevar al otro hacia algo mentalmente. Cuando sólo se trata de no repetir un sustantivo que ya ha aparecido, el español prefiere el artículo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de pelo cor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arios usos del neutro</a:t>
            </a:r>
            <a:r>
              <a:rPr b="1" lang="es-ES" sz="4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ferirnos a algo que no queremos o podemos nombrar  “Esto no lo entie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ferirse a un asunto ya mencionado o que está presupuesto se u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o de + infinitivo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bre propio/sustantivo/que + f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o de dormir no me gusta – eso de Pedro me preocupa – eso que estás haciendo no me gusta nada – esto que estás diciendo es ver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s formas neutras pueden ser sujeto del verbo ser aunque el predicado nominal es femenino o plural, a diferencia del itali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sto sí que es vi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so son tonte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form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es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iene muchas posibilidades expresiv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Hola Antonio, ?Cómo va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?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come va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Y eso qu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 dire 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Juan ha aprobado, y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o qu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no ha estudiado 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n eso/ en esto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 quel mo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n eso, entraron dos muj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A eso d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 una hora aproxi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legaron a eso de las 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Y eso?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ra pedir una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Hoy no quiero comer nada Y e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Ni por esas :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i tampoco as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Le dije que se lo devolvería, pero ni por 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De esta 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n esta (mala) oc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e esta, mu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emás se usa 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de +  grupo nominal/ infin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+ f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usa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lugar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l hablante quiere crear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ierta distanc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tre él y la cosa a la que se refiere. Se usa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señalar que se trata de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tema que ya había aparec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djetivos demostrativos concuerdan con el sustantivo en género y número. A diferencia del artículo, cuando el sustantivo comienza por “a” o “ha” tónica, el adjetivo debe mantener la form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ta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quel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lante de é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a agua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la 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demonstrativos pueden ir junto a un sustantivo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nción adjetiv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o estar solos en la frase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nción pronomi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. En este caso llevan acento gráf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element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deícticos(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ñaladores) porque señalan los seres en el espacio, en el tiempo o en el con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demostrativos, además de referirse a seres que están ante nosotros, puede aludir también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go o alguien que acabamos de nombrar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Ya leí la última novela de Vargas Llosa;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st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critor es magnífico. - Conversé con Luis y Juan.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 más simpático que e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Una época próxima o lejan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uando era pequeño, pasaba la Semana Santa con mis abuelos;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l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días fueron inolvidables.  -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días ha hecho mucho frí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go que recordamo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esposo 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ersona que nos visitó la semana pasada es un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gran piani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OMISIÓN DE LOS NOMBR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algunas ocasiones, cuando el sentido o la situación indica claramente de qué hablamos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mitimos el nombr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pronunciamos o escribimos únicamente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eterminant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; así, si estoy comprando unos zapatos y digo: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gustan más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se entiende "estos zapatos". La situación indica claramente a qué objetos me refiero, por eso no pronuncio su n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vierte al determinante demostrativo en pronombre, como indican algunas gramáticas; el pronombre lo usam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ugar d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un sintagma, 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los determinantes siemp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ompaña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a un nombre tácito o explícito, pero no lo sustituy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e todos los cuadros, el que más me gusta e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st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(Se sobreentiende el nombre: e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e cuadr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¿Qué profesor te lo dijo?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que está all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(Se entien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quel profes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stá allí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¿Cómo analizar sintácticamente una oración en la que algún nombre no esté explíci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s igual que señalamos "el sujeto tácito" cuando no está escrito, pero se supone claramente, así debemos hacer con los nombres que no se mencion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nalicemos la oración </a:t>
            </a:r>
            <a:r>
              <a:rPr b="1" i="1" lang="es-ES" sz="3200" spc="-1" strike="noStrike">
                <a:solidFill>
                  <a:srgbClr val="ff0000"/>
                </a:solidFill>
                <a:latin typeface="Verdana"/>
              </a:rPr>
              <a:t>Tu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 cartera es esta: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: el nombre que encierra está tácito, no está en la estructura superficial, pero se sobreentiende, o sea, está en la estructura profunda. La omisión de un nombre (no pronunciado ni escrito porque se sobreentiende) no convierte su determinante en pro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UNCIONES DE LOS DETERMINANTES DEMOSTR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n aparecer junto 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oses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a 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s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numer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os 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antalon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indefini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aquellas poc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s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dentro del sintagma nominal concurren con otros adjetivos, ocupan siempre e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rimer lugar, excepto c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o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les antepone: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Todos est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í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/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fácil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jer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84582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do como punto referente casi siempre al emisor o una persona gramatical, los adjetivos señalan la proximidad o lejanía espacial o temporal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te coche, ese sig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st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representa la mayor cercanía a la persona que habla,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s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a relativa proximidad al que escucha,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aque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 lejanía tanto del que habla como del que escuc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los demostrativos se indican también elementos nombrados con anterioridad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s paramos ante una casa;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’ casa era gra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mostrativo tiene un valor despectivo en determinados casos, mucho más acentuado si se utiliza la forma neutra para referirse a una person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 encontró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é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’; -  te presento a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éste/esto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determinantes demostrativ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levan tilde nun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sté el nombre al que acompañan tácito o explíc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señora se golpeó en el accidente, pero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aquell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en ocasiones, cuando el nombre al que determinan no está en la estructura superficial, puede resultar una oración ambigu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Acaban de llegar sus invitadas; traen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flores para u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e caso, "estas" se interpreta como el determinante de "flore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e/a /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: cosas próximas al hab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e/a/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cosas que el hablante considera pertenecientes al interlocutor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Ej: No estoy de acuerdo con eso que d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/la/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cosas alejadas tanto del hablante como del interlocu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ero si nosotros nos referíamos a "estas invitadas", es decir, como determinante de un nombre tácito, es necesario que tildemos el demostr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caban de llegar sus invitadas; traen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ést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lores para u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último caso, se entenderá 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raen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estas invitad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lores para usted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todos ellos se puede distinguir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exema o raíz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-, es-, aquell-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orfema gramatical de géne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asculi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femeni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eut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orfema gramatical de núme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Ø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ingu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l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djetivos s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ben sin tild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ero en 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onombres masculinos y femeni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aconsejable que la lleven para evitar ambigüedades en el texto que puedan inducir a confu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formas del neutro (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o- e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) no llevan nunca acento gráfico al no existir en español sustantivos neutros y desempeñan siempre función de pro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presentar val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nafór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encia a algo dicho anteriormente .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ú no hablas nada.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o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lo que di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al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atafór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enci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algo que se dice después del contexto.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Quiero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: que vengas a ve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os Demonstrativos pueden presentar las siguientes funciones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lante del sustantivo so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ctualizador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mo el artículo. Cualquier sustantivo puede funcionar como sujeto preverbal de ellos.: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sa fue de mi abu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adjetivos son determinantes del sustantivo al que acompañan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ed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quell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guas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van antepuestos al sustantivo impiden la aparición del artícu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etrás del sustantivo son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odificadores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e caso el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ctualizador es el artículo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La canción </a:t>
            </a:r>
            <a:r>
              <a:rPr b="1" i="1" lang="es-ES" sz="3200" spc="-1" strike="noStrike">
                <a:solidFill>
                  <a:srgbClr val="ff0000"/>
                </a:solidFill>
                <a:latin typeface="Verdana"/>
              </a:rPr>
              <a:t>es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me encantó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 lo tanto si están pospuestos quieren artículo: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esa casa / la casa e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(El libro este es de Oscar)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09T15:34:3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